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DE03-D79B-4485-BF15-F1173B192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CDA2-1FB1-4268-8A35-3F1FCD2C642F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D7ED-6C7D-4326-BFE0-D0CFEFEBE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5D22-08FE-4ED0-BD6B-78526E82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1A54-4EBF-4AED-A485-8208CDF70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1D69-7D92-4209-BBE3-B4B4D4763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0A0F4-6A3D-4674-AB15-5D4267D85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018D-F641-4840-8397-685426E8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EFB5-60A4-49A6-A788-1CAA7AAF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67623-7EEF-4ACE-9844-2822A505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4C4A-6358-43DF-BC3E-7AE04540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43063-6DB0-4196-B405-B5A775B4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21CC-C669-4B5B-BF0F-CC45CCE8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66AA-E12F-4C79-90C8-D22D3726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F4FF-2E69-4852-ACF6-B6BA422D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598A-511E-454C-A304-DB0A610C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30FF-6ECA-45F5-A0E7-A8FE2664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E42B-BB77-47DF-9F9A-E31E4142E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C589-D574-45FF-A2DA-29FBD4C86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5276-CBD6-45BC-86EB-23DDB4B0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3F6E-ACA9-436D-B2B5-551FA38B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43FC-FADA-496F-8968-D544FF88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D526-FB86-49C9-8FCB-ED01E767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2DC7-FDC4-45BD-BC79-1809B52B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01BD-05A9-45B7-AD51-6FAB88FD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6EC5-4948-4CF0-8B5A-4AA860F5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3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5F47-F38E-4EED-B8CF-22A18D5B6E3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88C5-04F5-42FC-A9B5-508AF9990A27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3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4EEC-0EC7-48DA-9040-82BD36F4A230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7986-9C76-424F-80D0-F33B53031819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C3D0-EF17-423B-9B4D-5BF3DFF275F2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B54C-2DAD-42C5-8EB6-3102EC8AF430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Health Issues for Children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in Foster Car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286000" y="3492000"/>
            <a:ext cx="6502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braham Rice, M.D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ster Care Clinic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dical Directo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ntra Costa Regional Medical Cent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b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y foster children are at ris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fancy and early childhood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re critical periods during which the foundations for trust,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lf-esteem, conscience, empathy, problem solving, focused learning,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d impulse control are laid down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284A-4A66-4E26-BB23-62EC654EBD7E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2EDA-615B-43E9-8F94-4FB90479FB29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B330-BE0C-4439-AE2E-AF6883A46C2B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284C-4430-4C95-9647-37EE51A2FB78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6160" y="228240"/>
            <a:ext cx="863748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ong Term Effects Adverse Childhood Even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hildren living in a home with domestic violence are more likely 50 years later to have stroke, myocardial infarction, suicide attempt, substance abuse problems and be incarcerated, COPD, heart disease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Arial"/>
              </a:rPr>
              <a:t>Adverse Childhood Events (ACE) Study, Kaiser Permanente/CDC/USDHHS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oster Care Children 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ARE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hildren with special health care need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nd should have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ccess to a medical home designed to meet those need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E6D1-1262-4D77-A1D0-AABAC3949118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8C87-B7F3-4B26-AFF4-F6187231B297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7160" y="722160"/>
            <a:ext cx="8637480" cy="144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ole of provider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AP recommendation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Fostering Health:</a:t>
            </a:r>
            <a:r>
              <a:rPr b="0" i="1" lang="en-US" sz="28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Health Care for Children in Foster Care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, second edition, 2005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5C13-4F96-46B8-BB2D-A648CB226CEC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08D4-9D70-447B-8FCF-978579887C6A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ole of provider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inimize the trauma of placement separation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mprove the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hild’s health and development during the period of foster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a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dvocate for child with child welfare agencies, foster families, birth families, schools, and courts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D256-D6AE-4A00-9A67-9F50ABE16632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D8CB-F9D9-46AF-A8D2-F7526AE4A655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ole of provider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ill require extended time and frequent follow up visi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ovide care with minimal inform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dentify physical, emotional, behavioral, psychosocial and developmental problem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F53E-931D-456C-9C98-EF86C1E4DB0B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F83D-984A-437D-8120-EFAD2D0FA5A8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ole of provider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ssist social worker and parents additional forms of evaluations, care and community services the child requir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Advocate for child’s best interes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ith worker, foster parent, courts, schoo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1C12-4480-438A-85DA-F5F5C2A554E0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69C5-9727-419C-9C5B-4E772C341DDA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ovide access to a medical home, defined as care that i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ccessible, comprehensive, continuous, coordinated, compassionate and family center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023F-F810-45A3-B1B1-AA712E4CB2D3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DD38-AC3D-4CFA-9D22-6A66BB3173F7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Health Care Componen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itial health screeni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mprehensive health assess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velopmental and mental health evaluati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imary care / health care maintenan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4337-93A6-4888-A235-8A653E2EE58E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61F5-C445-4CED-9D76-AFAFC1EEA4E4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itfalls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28240" y="198108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ail to ID as foster chil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Kinship foster child is a foster chil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ail to collect adequate inform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cial worker / foster family / bio fami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dical histor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ail to give adequate tim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7A31-4DD2-4968-9CCE-8986045D20FD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B3A0-DC21-439F-BE7F-A01CB34366F9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ake Home Messages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eing in Foster Care has profound consequences on childre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Especially younger childre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hildren in Foster Care are children with special health care needs and need access to a medical hom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86C8-EF00-4502-B011-6AA952E33EEB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F9D8-7CA7-48FB-9EEA-E93BAA949D6F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itfalls (cont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on’t ask why child remove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on’t assess how is doing in new hom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ail to screen adequately for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v delays / abuse / chronic illness / behavioral and emotional problem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mmunicate concer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o foster parent AND worker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A86B-3F33-4DBE-B887-B53949D2A432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A580-E1C7-45E6-A73E-5EF20277E528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itfalls (cont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ail to schedule adequate follow up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ail to make appropriate delay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on’t follow up on concern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eight, poor match between home and chil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9A31-F829-486B-8DFE-B4F89A2005C5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F52C-5FDA-4966-994D-537E9D0B1064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itial health screening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dentify any immediate medical, urgent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ntal health, or dental need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ealth conditions of which the foster parents and caseworker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hould be awa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dicatio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irect communication with foster parents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and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rovid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9020-36A5-4FB7-B043-E2C14D7C2A8F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B899-04F0-485D-BEC8-5FD242B21E0A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itial health screening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eight / Weight / Head Circumferen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ead to toe exam, including genital exam and workup as appropriate for concerns of abuse or other concer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CEA4-41A5-4807-A6D1-4C586212A9CC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7FBD-ECB0-4E5B-9E96-436FAF37E061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2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cc00"/>
                </a:solidFill>
                <a:latin typeface="Arial"/>
              </a:rPr>
              <a:t>Comprehensive Health Assessment</a:t>
            </a:r>
            <a:endParaRPr b="0" lang="en-US" sz="41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aseworker and foster parents pres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ealth Education Passport (HEP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tain information from birth parents and keep involved whenever possib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3CC7-38C1-4D68-9141-C41CE95826A6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24E8-670B-459A-9323-C0398C91FCC8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2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cc00"/>
                </a:solidFill>
                <a:latin typeface="Arial"/>
              </a:rPr>
              <a:t>Comprehensive Health Assessment</a:t>
            </a:r>
            <a:endParaRPr b="0" lang="en-US" sz="41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historical review should include: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circumstances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at led to placement the child’s adjustment to separation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rom the birth fami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daptation to the foster home developmental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r school progres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gency’s plans for permanenc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B3F7-FC81-41B2-86BE-C2E025737669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65B3-3776-4789-990D-D404321A5E95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2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cc00"/>
                </a:solidFill>
                <a:latin typeface="Arial"/>
              </a:rPr>
              <a:t>Comprehensive Health Assessment</a:t>
            </a:r>
            <a:endParaRPr b="0" lang="en-US" sz="41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mmunizati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ntal evalu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clude scheduling follow up visi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F705-1DA5-4E97-B1C8-028E7610EFD5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D653-B918-4526-A4C1-403D94888124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evelopment &amp; mental health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82880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terview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ster parent, casework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tandardized tes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view of educational evaluati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CDED-264E-499C-BB25-4E6F2D63BA74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157A-13BC-4191-AC53-4DE427195B58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evelopmental and Educationa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ocal consultants and community-based intervention program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upplemental Nutrition Program for Women,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fants, and Children [WIC] and Head Start, Regional center,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pecial education (IEP), early intervention, CCS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CEDD-EF42-427A-9B8D-C07A89527488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11D8-1157-466A-8872-BB5372109A1A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ubspecialty support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ntal healt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rapy, psychiatr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hild Development Clinic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gional Cent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urology / Neurosurge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9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E9D8-FB26-41EC-9C76-E4D8FC0C73F8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4FA0-999E-497B-90AC-2E547B49E6B6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oster children at risk for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hysical problem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motional and behavioral problem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velopmental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lay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cademic problem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3597-227C-4A07-8C36-C9E401509B0D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CCCB-76DD-4225-8157-F73D97405CB4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reatmen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ll treatment recommendations and plans should be part of court approved social services pla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ltimately is the agency / social worker’s responsibility to see the implementation of medical care pla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6B1A-DDAD-4EF5-95C1-AC42B6F20A76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00BE-F415-4CC3-9296-6B83C471A2D9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rimary care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hould assess physical and emotional health and developmental status of child at every visi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t risk for emotional problems / abu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specially at times of transi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ccess to medical hom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B5F3-ED1B-4DC0-8DA9-4298256C9D25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9FC8-0CEC-46E3-BE0F-2213B0AF854E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Ongoing car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requent routine evaluati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nthly until 6 months of ag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very 2 months until 1 year of ag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very 3 months until 2 years of ag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very 6 months after 2 years of ag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t times of transi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ntinuity of medical care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1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3093-EC84-4393-8E03-8A22D36E51DE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6A2E-A2B7-4A0F-9723-555C65978846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eminder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Advocate for child’s best interes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ith worker, foster parent, courts, schoo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5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356A-46A4-4D05-8FE0-51BE1058652A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4ED7-AADC-4813-A362-70873276E948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6212-7900-4CFB-AC3F-16C4D3AAD812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6276-C6F5-4F0A-A466-5BC2E1606A96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2417760" y="1941480"/>
            <a:ext cx="4029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28680" y="1941480"/>
            <a:ext cx="8208720" cy="4114800"/>
          </a:xfrm>
          <a:prstGeom prst="rect">
            <a:avLst/>
          </a:prstGeom>
          <a:ln w="0">
            <a:noFill/>
          </a:ln>
        </p:spPr>
      </p:pic>
      <p:sp>
        <p:nvSpPr>
          <p:cNvPr id="233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CACC-E6D2-4BED-A4EB-5F48A26589CB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DB6D-DAC2-4EBB-937B-EC9037B98256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28680" y="1941480"/>
            <a:ext cx="8208720" cy="4114800"/>
          </a:xfrm>
          <a:prstGeom prst="rect">
            <a:avLst/>
          </a:prstGeom>
          <a:ln w="0">
            <a:noFill/>
          </a:ln>
        </p:spPr>
      </p:pic>
      <p:sp>
        <p:nvSpPr>
          <p:cNvPr id="237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8889-D6FA-431A-99B3-BCAF1C9C368D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7D3A-816D-4186-8858-1A10B568F94E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28680" y="1941480"/>
            <a:ext cx="8208720" cy="4114800"/>
          </a:xfrm>
          <a:prstGeom prst="rect">
            <a:avLst/>
          </a:prstGeom>
          <a:ln w="0">
            <a:noFill/>
          </a:ln>
        </p:spPr>
      </p:pic>
      <p:sp>
        <p:nvSpPr>
          <p:cNvPr id="241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1711-8EB3-490A-B378-D8335AF85129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26B3-7650-4386-BDBC-DE6298D531F6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22160"/>
            <a:ext cx="8637480" cy="144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hysical problems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hysical and sexual abu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sthm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eadach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astrointestinal problem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0863-764D-4C7C-93DF-921C3ADA03EF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FCC2-465C-4F0F-9EEF-F83CB1E1A568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motional / behavioral problems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itnessing domestic violen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esent based on developmental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TS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DH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ggressive / withdraw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pression / anxiet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nduct disorders / truanc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5434-DF52-4300-905B-BCF7896F6FA6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5C74-82F7-4135-AF3B-2A033FA7E0FE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evelopmental delay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cial / emotional delay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anguage delay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ne motor / gross moto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06BA-E637-4ACF-9060-4A42C2D6CE8A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7500-1A99-4FA1-AC96-64B49E9DB92F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7160" y="722160"/>
            <a:ext cx="8637480" cy="144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ttachment system theory of developmen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rmal development is absolutely dependent on a bond with a loving caregiv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ffect regulation may be the most essential aspect of a child’s develop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0C85-27FE-4286-AD59-AC0C060F8438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FE7F-64B4-405B-9215-C83C42C8E2D9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(but wait, there's more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, foster children at much greater risk for serious adverse health outcome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orse still………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A978-727B-491A-B1D7-4119EFE41255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44B8-EA92-4167-9F8D-6A2F4BE951B2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ccess to poor health car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sufficient fundi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ack of acces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olonged waits for medical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d mental health servic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ack of coordination of servic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8350-EAB2-4D5C-9095-52B7216583B8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488C-C9E1-4F84-95B6-AA0B10F18083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be</dc:creator>
  <dc:description/>
  <dc:language>en-US</dc:language>
  <cp:lastModifiedBy>Abe</cp:lastModifiedBy>
  <dcterms:modified xsi:type="dcterms:W3CDTF">2009-04-15T14:38:04Z</dcterms:modified>
  <cp:revision>41</cp:revision>
  <dc:subject/>
  <dc:title>PowerPoint Presentation</dc:title>
</cp:coreProperties>
</file>